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C9F-4FF6-42CC-B19D-E6013EC8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248-2231-4627-BAA8-B94F8776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C59-4863-47C4-A04B-BFE30E3F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8AF-A8BA-4E35-B328-C272D0BD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727-DE21-41EB-900B-30E3AA09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2A4-6653-48C9-A02A-C9A90452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4F0-5B4E-4F79-8733-CA626D59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6FD-0759-417C-86EE-2452F696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903-52BA-4A0B-AA54-8F6D9F91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CB8-A83E-4300-8341-834EE5B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DA2-F1CC-44B8-B0EC-FAE533D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FFD-9FB8-4FB8-90D0-DD4207E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9633-8EDB-44DE-B8BB-6B4A9A394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5, Les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80880"/>
            <a:ext cx="7925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children of David in this lesson are _________, ___________ and ____________.  (Which two had the same mother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as Jonadab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What prompted him to ask Amnon what brought on his sick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not really love for his half-sister, but _________ that caused Amnon to do the evil thing that he d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Jonadab suggest as a means for Amnon to accomplish his evil desi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7621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962160" y="1142640"/>
            <a:ext cx="11430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105520" y="114264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2096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’s nephew; Amnon’s cou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32767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non had a haggard look morning after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038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586728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nd to be sick; ask your father to send Tamar to prepare a meal for you while you are in 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3808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Amnon’s feeling toward Tamar after he had violated her virgi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David do about the situation once he learned of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the reason David was indecisive about proper action toward Amnon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alom invited his ___________, his ___________and the ________ officials to a feast when his sheep-shearing was finished.   By this time ___ years had pa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3941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800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8006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4864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1430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red, wanted her out of his sight - even though she did not want to leave at tha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2860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098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ommitted adultery himself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80880"/>
            <a:ext cx="830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Absalom take vengeance on Amn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at place and to whom did Absalom fl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 tried to think of ways to persuade David to 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rt did the woman of Tekoa p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AutoNum type="arabicPeriod" startAt="10"/>
              <a:tabLst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did David think had put her up to this 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9144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sked his servants to kill him after he got drunk at the f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1981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hur;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his grandfa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s mother’s fath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was the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505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b, David’s nephew, and his “captain of the hosts” or commander of the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9718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his son Absalom home knowing he was next in line to be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1911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ent before the king with a similar situation/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5257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uspected 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8088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David allowed Absalom to return, he still would not receive him in ________  _________ for a period of _______ mor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.  How many years were involved from the time of Amnon’s crime until David was willing to see Absalom ag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762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1143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143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352680"/>
            <a:ext cx="6934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from the act to Amnon’s deat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years Absalom was in Geshu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back in Jerusalem, but David would not see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17:49:49Z</dcterms:created>
  <dc:creator>Frank D Vines</dc:creator>
  <dc:description/>
  <dc:language>en-US</dc:language>
  <cp:lastModifiedBy>Frank D Vines</cp:lastModifiedBy>
  <dcterms:modified xsi:type="dcterms:W3CDTF">2005-07-06T04:13:24Z</dcterms:modified>
  <cp:revision>15</cp:revision>
  <dc:subject/>
  <dc:title>Slide 1</dc:title>
</cp:coreProperties>
</file>